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ED0-C80C-4262-90EB-EF8236FA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4941-3F63-484F-95E0-3DF18882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E2A8-C927-48C5-95F3-88288209C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40F-749D-42E7-BED3-9E0D25D3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260-A490-4B7B-AD67-17A4B99A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80B7-C260-4084-9814-55936AC5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C92-462B-43C1-B071-AB21C872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F57-4991-4F0D-85C0-3620697F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ED6D-FF39-4F70-A9CE-9BC9E24EB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921-AAA8-434E-AF87-ACCED55B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317-1A73-4E8E-A085-D0F1DCA4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773-B641-4BD6-81D7-9EE846C3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95D-7C49-447A-9BB3-5193DF0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DB3-ED46-4CF8-82D1-D6D084D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059-5C10-4E70-8793-A9D7A0E7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232-BD0E-455D-89E2-CCCCBD06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08E-9EC4-4CC2-8843-6E2E3C2C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151-4DCB-472C-A1CC-0AB8CB1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84F-E4E8-4BDD-8AFB-937795B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761-7976-4405-A75C-3D605E3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A52-F687-4BB9-94E3-8450B30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503-86BC-4828-878F-4D6981A2C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6. When molecules move faster,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04920" y="16714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6400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1371600"/>
            <a:ext cx="340380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57200" y="4419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7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8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n accelerate, decelerate, or dampen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 Orga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First, we would like you to complete a questionnai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o…find someone with a FOLDER. Get into groups of F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name on the inside cover of the folder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Student ID if you have it (bring it next time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ZE THE FOLDER LETTER!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Begin the “Analogy Assessment” when we tell you to star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the 8 causal principles that will guide the activities in this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Match the causal principle to scenarios about the Earth and environ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1. Gravitational energy, thermal energy and/or chem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rive all movement and change of matter on Ear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038480" y="647712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us.123rf.com/400wm/400/400/uulgaa/uulgaa0810/uulgaa081000020/3695914-stainless-steel-pot-on-a-gas-stov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876920" y="16002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hemical energy 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in natural gas being burned and converted into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potonstove.jpg"/>
          <p:cNvPicPr/>
          <p:nvPr/>
        </p:nvPicPr>
        <p:blipFill>
          <a:blip r:embed="rId1"/>
          <a:stretch/>
        </p:blipFill>
        <p:spPr>
          <a:xfrm>
            <a:off x="4746600" y="3581280"/>
            <a:ext cx="4397400" cy="2946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0" y="624852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rolive.org/photo_gallery/photos-skateboarder-7/alex_ollie_skatepark_bordeaux_skate_ouest_tour_09.s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skateboarder.jpg"/>
          <p:cNvPicPr/>
          <p:nvPr/>
        </p:nvPicPr>
        <p:blipFill>
          <a:blip r:embed="rId2"/>
          <a:stretch/>
        </p:blipFill>
        <p:spPr>
          <a:xfrm>
            <a:off x="0" y="3124080"/>
            <a:ext cx="4495680" cy="298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0" y="1371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Gravitational energy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 can be stored (potential) or drive motion towards Earth (kin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4920" y="12193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80880" y="41148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3. Matter moves and chang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4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Boiling water requires heat convert liquid water into water vapor (g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hatscookingamerica.net/Foto4/BoilingWater.b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BoilingWater.bmp"/>
          <p:cNvPicPr/>
          <p:nvPr/>
        </p:nvPicPr>
        <p:blipFill>
          <a:blip r:embed="rId1"/>
          <a:stretch/>
        </p:blipFill>
        <p:spPr>
          <a:xfrm>
            <a:off x="304920" y="2362320"/>
            <a:ext cx="298908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eatCool.gif"/>
          <p:cNvPicPr/>
          <p:nvPr/>
        </p:nvPicPr>
        <p:blipFill>
          <a:blip r:embed="rId2"/>
          <a:stretch/>
        </p:blipFill>
        <p:spPr>
          <a:xfrm>
            <a:off x="3621240" y="1219320"/>
            <a:ext cx="4252680" cy="2921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4495680" y="635328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38480" y="457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hase change either use up or release heat energy.  Boiling (vaporization) uses up heat while condensation releases h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5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0" y="12254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can be thought of as the Kinetic Energy of molecules, or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12:18Z</dcterms:created>
  <dc:creator>Julie Libarkin</dc:creator>
  <dc:description/>
  <dc:language>en-US</dc:language>
  <cp:lastModifiedBy>Nicole LaDue</cp:lastModifiedBy>
  <dcterms:modified xsi:type="dcterms:W3CDTF">2011-01-13T21:31:55Z</dcterms:modified>
  <cp:revision>323</cp:revision>
  <dc:subject/>
  <dc:title>PowerPoint Presentation</dc:title>
</cp:coreProperties>
</file>